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37090"/>
        <c:axId val="75494472"/>
      </c:barChart>
      <c:catAx>
        <c:axId val="49537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4472"/>
        <c:crosses val="autoZero"/>
        <c:auto val="1"/>
        <c:lblAlgn val="ctr"/>
        <c:lblOffset val="100"/>
        <c:noMultiLvlLbl val="0"/>
      </c:catAx>
      <c:valAx>
        <c:axId val="75494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7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63A-6E16-4291-8F4A-B561A4C6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EE3-0B75-4558-B6BC-A8F9E20F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78A-C61B-4B92-9146-44BDD19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3CC-A36F-49CD-B50D-F9FEC9E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A6F-09EE-47B5-8AEF-1C1EE0EC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49F-B634-4831-B162-CD2385B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389-2E53-49EB-8C87-840B6D16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82B-4A25-42DE-A34A-9F5223BC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035-225D-4F67-949E-ACDAA4B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19C-C5F9-4682-8627-3F6297A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C77-4225-4818-9DB3-FE77622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4E-E0EE-4FE5-949C-B051F2D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01278-CAB4-4BF4-9281-92BDA4C79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