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7292"/>
        <c:axId val="68054313"/>
      </c:barChart>
      <c:catAx>
        <c:axId val="1487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54313"/>
        <c:crosses val="autoZero"/>
        <c:auto val="1"/>
        <c:lblAlgn val="ctr"/>
        <c:lblOffset val="100"/>
        <c:noMultiLvlLbl val="0"/>
      </c:catAx>
      <c:valAx>
        <c:axId val="68054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7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993-4464-465A-ACE9-B1F8E171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E27-1DC5-426B-8340-0E8E6573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83F-0357-4FA9-9FF5-15CAB66D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EBC-0075-4E8C-B4FF-D2AE68FD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4C8-9C74-402B-8521-3208ACD9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1A6-974E-4441-88A8-0AF13CC9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EF5-CAF6-4684-9C14-AF9512E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C7B-AAD9-43C8-A611-516182C8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AC7-B875-4CE2-B33D-FE674D9C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040-5046-484C-A78B-C0DCE19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18D-F7D0-4A6C-A7A5-B56441B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8C4-36F5-4F07-9362-BB2B98FB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E9ABA-3C4D-4440-9043-C9216F66AF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