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89484"/>
        <c:axId val="7837527"/>
      </c:barChart>
      <c:catAx>
        <c:axId val="78289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7527"/>
        <c:crosses val="autoZero"/>
        <c:auto val="1"/>
        <c:lblAlgn val="ctr"/>
        <c:lblOffset val="100"/>
        <c:noMultiLvlLbl val="0"/>
      </c:catAx>
      <c:valAx>
        <c:axId val="7837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89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13F-921F-464E-9510-CB8F61E1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BC4-D71A-4E06-9082-01C4FFAF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3D1-CFA7-4526-9584-06EE73BB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4D6-C7D0-48DD-923F-5609BA48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F0B-EE5B-43FC-A240-49ED699E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D15-C815-4A2E-8EDC-1A630470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AB4-6DA4-42AB-A444-340E9B01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F2C-3DB2-408B-8A88-2F565FEF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583-43CC-4035-A5F1-1D3EC3AD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363-DBA5-4B42-8D3C-BFB470A9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06F-F26A-43E1-A0AB-CA904D93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381-5D55-4D91-B4E3-C2956D2E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11BBD-3FA6-4AFF-9096-41D634C394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