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99935"/>
        <c:axId val="85448114"/>
      </c:barChart>
      <c:catAx>
        <c:axId val="43999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48114"/>
        <c:crosses val="autoZero"/>
        <c:auto val="1"/>
        <c:lblAlgn val="ctr"/>
        <c:lblOffset val="100"/>
        <c:noMultiLvlLbl val="0"/>
      </c:catAx>
      <c:valAx>
        <c:axId val="85448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99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1E7-7031-42E1-BF59-AD0F3801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0CE-5A67-4C2C-936D-C9934CF7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A70-5DB4-4B86-9F8A-39532F58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D38-7DEC-4E5A-871D-8A8B6418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992-12A6-4035-AEF4-C9E477E3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89C-38C6-4DCA-B84E-36892AC8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114-E0EC-4EA6-8882-2ED871E0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612-D4DA-4DDE-828B-F1C27639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122-1335-4DC1-867D-D5CF3000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4D4-A7DF-4A99-B7F7-AA91056D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0A51-FD60-4BD8-9341-2EAC32A6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B8E-C507-45B8-90C9-B962A834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75301-EF75-4512-8686-BCAE88303F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